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A7E-B9DA-4117-94A3-11C241FD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6BA-98EC-4493-BC0C-CFC1A345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E41-34A4-4348-A271-BDEBF44A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8AD-3057-4646-A043-EBA573A1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CC12-358A-4250-A757-9161480D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FEE0-3166-445B-A88E-F503C6B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C017-5EAB-46A3-8E3B-238C233A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083E-8F1E-4682-8680-3A3E522F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F131-C355-4A99-AE03-04A9E316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B48C-4774-42B2-90E5-BA94BDF8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4960-0B88-46C7-B1AF-84AA0A8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731-61AA-4B88-9AFE-C45CC67E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7F2-0859-404E-B4DF-426F4CD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67C-6B37-4A65-8C66-408342D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9E4E-AE3A-4E4A-BD8E-207739BA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0A1-75DE-47DD-866D-B3DEA44B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2109-913D-42E4-9881-0FD01E87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ED5-8C73-48E8-B578-9384A865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4B3-719C-47DA-BC13-0931A28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B04-0289-4E83-95DF-25ECBAB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F6E-997C-478C-8886-7AE86C8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07D-3CEF-4DF3-8EB1-A35D5BE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5CD-80C3-4036-8B5E-AB3EE11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AB5-AEA3-4715-9117-B21D2E2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1DF18-4C5C-429C-8D08-4E5981352A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F7EE8-A5BD-4FE9-B7EF-5AC35CD66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11150640" y="0"/>
            <a:ext cx="514440" cy="1081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0" y="6613560"/>
            <a:ext cx="12192120" cy="24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C963F-517E-4618-9DAC-035AC8AC82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25566-35FF-48E1-A06A-6964D91D0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1111320" y="431640"/>
            <a:ext cx="87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赛三大金刚高频考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202360" y="1528920"/>
            <a:ext cx="545436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功能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界面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模式切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界面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闪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边界范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3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的数据合理性判断后才生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仅在某界面有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5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界面退出时，存储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上电自动读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6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按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跳转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，松开恢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7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数据逐个输入并显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8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短按和长按（抬起时长按生效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9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短按和长按（时间到后长按生效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52400" y="1528920"/>
            <a:ext cx="334800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码管显示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内容探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电数码管全亮解决方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792720" y="210960"/>
            <a:ext cx="411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界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闪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边界范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150840" y="1571760"/>
            <a:ext cx="5659560" cy="15462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2"/>
          <a:stretch/>
        </p:blipFill>
        <p:spPr>
          <a:xfrm>
            <a:off x="484200" y="3273480"/>
            <a:ext cx="5326200" cy="144936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1748160" y="5327640"/>
            <a:ext cx="11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二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5" descr=""/>
          <p:cNvPicPr/>
          <p:nvPr/>
        </p:nvPicPr>
        <p:blipFill>
          <a:blip r:embed="rId3"/>
          <a:stretch/>
        </p:blipFill>
        <p:spPr>
          <a:xfrm>
            <a:off x="5708520" y="2344680"/>
            <a:ext cx="648360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6" descr=""/>
          <p:cNvPicPr/>
          <p:nvPr/>
        </p:nvPicPr>
        <p:blipFill>
          <a:blip r:embed="rId4"/>
          <a:stretch/>
        </p:blipFill>
        <p:spPr>
          <a:xfrm>
            <a:off x="5810400" y="3813120"/>
            <a:ext cx="5562360" cy="1381320"/>
          </a:xfrm>
          <a:prstGeom prst="rect">
            <a:avLst/>
          </a:prstGeom>
          <a:ln w="0">
            <a:noFill/>
          </a:ln>
        </p:spPr>
      </p:pic>
      <p:sp>
        <p:nvSpPr>
          <p:cNvPr id="127" name="矩形 7"/>
          <p:cNvSpPr/>
          <p:nvPr/>
        </p:nvSpPr>
        <p:spPr>
          <a:xfrm>
            <a:off x="8006040" y="569592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一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8" descr=""/>
          <p:cNvPicPr/>
          <p:nvPr/>
        </p:nvPicPr>
        <p:blipFill>
          <a:blip r:embed="rId5"/>
          <a:stretch/>
        </p:blipFill>
        <p:spPr>
          <a:xfrm>
            <a:off x="5927760" y="5283360"/>
            <a:ext cx="3800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237960" y="851040"/>
            <a:ext cx="5489640" cy="310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2"/>
          <p:cNvSpPr/>
          <p:nvPr/>
        </p:nvSpPr>
        <p:spPr>
          <a:xfrm>
            <a:off x="1780920" y="606888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省赛真题（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792720" y="210960"/>
            <a:ext cx="411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界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闪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边界范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图片 4" descr=""/>
          <p:cNvPicPr/>
          <p:nvPr/>
        </p:nvPicPr>
        <p:blipFill>
          <a:blip r:embed="rId2"/>
          <a:stretch/>
        </p:blipFill>
        <p:spPr>
          <a:xfrm>
            <a:off x="407880" y="3911760"/>
            <a:ext cx="4734000" cy="1790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" descr=""/>
          <p:cNvPicPr/>
          <p:nvPr/>
        </p:nvPicPr>
        <p:blipFill>
          <a:blip r:embed="rId3"/>
          <a:stretch/>
        </p:blipFill>
        <p:spPr>
          <a:xfrm>
            <a:off x="5934240" y="592200"/>
            <a:ext cx="590544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"/>
          <p:cNvPicPr/>
          <p:nvPr/>
        </p:nvPicPr>
        <p:blipFill>
          <a:blip r:embed="rId4"/>
          <a:stretch/>
        </p:blipFill>
        <p:spPr>
          <a:xfrm>
            <a:off x="6157800" y="2617920"/>
            <a:ext cx="5457960" cy="3257280"/>
          </a:xfrm>
          <a:prstGeom prst="rect">
            <a:avLst/>
          </a:prstGeom>
          <a:ln w="0">
            <a:noFill/>
          </a:ln>
        </p:spPr>
      </p:pic>
      <p:sp>
        <p:nvSpPr>
          <p:cNvPr id="135" name="矩形 7"/>
          <p:cNvSpPr/>
          <p:nvPr/>
        </p:nvSpPr>
        <p:spPr>
          <a:xfrm>
            <a:off x="7892640" y="606888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八届省赛真题（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981000" y="1114560"/>
            <a:ext cx="998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某个界面，设置几个变量（在数码管上显示的），被选中的变量，要以某种时间间隔进行闪烁，通过加减按键控制增加和减小，还有边界属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变量循环写作套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如实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-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循环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if(++state_flag == 4) state_flag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边界属性通常有两种情况，第一种是到边界停住，第二种是循环。都是通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的写法实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976320" y="0"/>
            <a:ext cx="273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的数据合理性判断后才生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2" descr=""/>
          <p:cNvPicPr/>
          <p:nvPr/>
        </p:nvPicPr>
        <p:blipFill>
          <a:blip r:embed="rId1"/>
          <a:stretch/>
        </p:blipFill>
        <p:spPr>
          <a:xfrm>
            <a:off x="341280" y="4092480"/>
            <a:ext cx="5496120" cy="14194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2"/>
          <a:stretch/>
        </p:blipFill>
        <p:spPr>
          <a:xfrm>
            <a:off x="147600" y="628560"/>
            <a:ext cx="5689800" cy="3365640"/>
          </a:xfrm>
          <a:prstGeom prst="rect">
            <a:avLst/>
          </a:prstGeom>
          <a:ln w="0">
            <a:noFill/>
          </a:ln>
        </p:spPr>
      </p:pic>
      <p:sp>
        <p:nvSpPr>
          <p:cNvPr id="140" name="矩形 4"/>
          <p:cNvSpPr/>
          <p:nvPr/>
        </p:nvSpPr>
        <p:spPr>
          <a:xfrm>
            <a:off x="1708560" y="5610240"/>
            <a:ext cx="11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二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片 5" descr=""/>
          <p:cNvPicPr/>
          <p:nvPr/>
        </p:nvPicPr>
        <p:blipFill>
          <a:blip r:embed="rId3"/>
          <a:stretch/>
        </p:blipFill>
        <p:spPr>
          <a:xfrm>
            <a:off x="6043680" y="1039680"/>
            <a:ext cx="5686200" cy="2257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" descr=""/>
          <p:cNvPicPr/>
          <p:nvPr/>
        </p:nvPicPr>
        <p:blipFill>
          <a:blip r:embed="rId4"/>
          <a:stretch/>
        </p:blipFill>
        <p:spPr>
          <a:xfrm>
            <a:off x="5961240" y="3355920"/>
            <a:ext cx="5486400" cy="1276560"/>
          </a:xfrm>
          <a:prstGeom prst="rect">
            <a:avLst/>
          </a:prstGeom>
          <a:ln w="0">
            <a:noFill/>
          </a:ln>
        </p:spPr>
      </p:pic>
      <p:sp>
        <p:nvSpPr>
          <p:cNvPr id="143" name="矩形 7"/>
          <p:cNvSpPr/>
          <p:nvPr/>
        </p:nvSpPr>
        <p:spPr>
          <a:xfrm>
            <a:off x="7401960" y="561024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五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19160" y="893880"/>
            <a:ext cx="9982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置的两个数据进行比较，数据合格才可以确认使用，数据不合格就不可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最常规的解决方案就是，为设置的数据创建副本，副本为真正起作用的数据，只有设置的数据有效的时候，设置的数据可以替换真正有效的数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976320" y="0"/>
            <a:ext cx="273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的数据合理性判断后才生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645480" y="17136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仅在某界面有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图片 2" descr=""/>
          <p:cNvPicPr/>
          <p:nvPr/>
        </p:nvPicPr>
        <p:blipFill>
          <a:blip r:embed="rId1"/>
          <a:stretch/>
        </p:blipFill>
        <p:spPr>
          <a:xfrm>
            <a:off x="244440" y="4989600"/>
            <a:ext cx="5648400" cy="3808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"/>
          <p:cNvPicPr/>
          <p:nvPr/>
        </p:nvPicPr>
        <p:blipFill>
          <a:blip r:embed="rId2"/>
          <a:stretch/>
        </p:blipFill>
        <p:spPr>
          <a:xfrm>
            <a:off x="379440" y="1566720"/>
            <a:ext cx="5778360" cy="326556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1708560" y="5610240"/>
            <a:ext cx="11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二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5" descr=""/>
          <p:cNvPicPr/>
          <p:nvPr/>
        </p:nvPicPr>
        <p:blipFill>
          <a:blip r:embed="rId3"/>
          <a:stretch/>
        </p:blipFill>
        <p:spPr>
          <a:xfrm>
            <a:off x="6230880" y="4827600"/>
            <a:ext cx="3905280" cy="5428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" descr=""/>
          <p:cNvPicPr/>
          <p:nvPr/>
        </p:nvPicPr>
        <p:blipFill>
          <a:blip r:embed="rId4"/>
          <a:stretch/>
        </p:blipFill>
        <p:spPr>
          <a:xfrm>
            <a:off x="6230880" y="4133880"/>
            <a:ext cx="5657760" cy="3999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" descr=""/>
          <p:cNvPicPr/>
          <p:nvPr/>
        </p:nvPicPr>
        <p:blipFill>
          <a:blip r:embed="rId5"/>
          <a:stretch/>
        </p:blipFill>
        <p:spPr>
          <a:xfrm>
            <a:off x="6157800" y="2784600"/>
            <a:ext cx="5330880" cy="1190520"/>
          </a:xfrm>
          <a:prstGeom prst="rect">
            <a:avLst/>
          </a:prstGeom>
          <a:ln w="0">
            <a:noFill/>
          </a:ln>
        </p:spPr>
      </p:pic>
      <p:sp>
        <p:nvSpPr>
          <p:cNvPr id="153" name="矩形 8"/>
          <p:cNvSpPr/>
          <p:nvPr/>
        </p:nvSpPr>
        <p:spPr>
          <a:xfrm>
            <a:off x="8006040" y="569592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一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645480" y="17136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仅在某界面有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2" descr=""/>
          <p:cNvPicPr/>
          <p:nvPr/>
        </p:nvPicPr>
        <p:blipFill>
          <a:blip r:embed="rId1"/>
          <a:stretch/>
        </p:blipFill>
        <p:spPr>
          <a:xfrm>
            <a:off x="244440" y="1598760"/>
            <a:ext cx="4743360" cy="657000"/>
          </a:xfrm>
          <a:prstGeom prst="rect">
            <a:avLst/>
          </a:prstGeom>
          <a:ln w="0">
            <a:noFill/>
          </a:ln>
        </p:spPr>
      </p:pic>
      <p:sp>
        <p:nvSpPr>
          <p:cNvPr id="156" name="矩形 3"/>
          <p:cNvSpPr/>
          <p:nvPr/>
        </p:nvSpPr>
        <p:spPr>
          <a:xfrm>
            <a:off x="1669680" y="238608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4" descr=""/>
          <p:cNvPicPr/>
          <p:nvPr/>
        </p:nvPicPr>
        <p:blipFill>
          <a:blip r:embed="rId2"/>
          <a:stretch/>
        </p:blipFill>
        <p:spPr>
          <a:xfrm>
            <a:off x="484200" y="4005360"/>
            <a:ext cx="5562720" cy="733320"/>
          </a:xfrm>
          <a:prstGeom prst="rect">
            <a:avLst/>
          </a:prstGeom>
          <a:ln w="0">
            <a:noFill/>
          </a:ln>
        </p:spPr>
      </p:pic>
      <p:sp>
        <p:nvSpPr>
          <p:cNvPr id="158" name="矩形 5"/>
          <p:cNvSpPr/>
          <p:nvPr/>
        </p:nvSpPr>
        <p:spPr>
          <a:xfrm>
            <a:off x="1669680" y="488808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八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3"/>
          <p:cNvSpPr/>
          <p:nvPr/>
        </p:nvSpPr>
        <p:spPr>
          <a:xfrm>
            <a:off x="1019160" y="893880"/>
            <a:ext cx="9982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有多屏的时，某些按键需要在该屏时才有效，在别的屏无法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决方案，就是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key_pro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，给按键判别增加屏幕状态的前提条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"/>
          <p:cNvSpPr/>
          <p:nvPr/>
        </p:nvSpPr>
        <p:spPr>
          <a:xfrm>
            <a:off x="645480" y="171360"/>
            <a:ext cx="204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仅在某界面有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1176840" y="277920"/>
            <a:ext cx="430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界面退出时，存储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上电自动读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2" descr=""/>
          <p:cNvPicPr/>
          <p:nvPr/>
        </p:nvPicPr>
        <p:blipFill>
          <a:blip r:embed="rId1"/>
          <a:stretch/>
        </p:blipFill>
        <p:spPr>
          <a:xfrm>
            <a:off x="184320" y="2036880"/>
            <a:ext cx="5821200" cy="1203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" descr=""/>
          <p:cNvPicPr/>
          <p:nvPr/>
        </p:nvPicPr>
        <p:blipFill>
          <a:blip r:embed="rId2"/>
          <a:stretch/>
        </p:blipFill>
        <p:spPr>
          <a:xfrm>
            <a:off x="696960" y="3505320"/>
            <a:ext cx="5753160" cy="7524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" descr=""/>
          <p:cNvPicPr/>
          <p:nvPr/>
        </p:nvPicPr>
        <p:blipFill>
          <a:blip r:embed="rId3"/>
          <a:stretch/>
        </p:blipFill>
        <p:spPr>
          <a:xfrm>
            <a:off x="611280" y="4522680"/>
            <a:ext cx="5597280" cy="709560"/>
          </a:xfrm>
          <a:prstGeom prst="rect">
            <a:avLst/>
          </a:prstGeom>
          <a:ln w="0">
            <a:noFill/>
          </a:ln>
        </p:spPr>
      </p:pic>
      <p:sp>
        <p:nvSpPr>
          <p:cNvPr id="165" name="矩形 5"/>
          <p:cNvSpPr/>
          <p:nvPr/>
        </p:nvSpPr>
        <p:spPr>
          <a:xfrm>
            <a:off x="2553120" y="558972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一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图片 6" descr=""/>
          <p:cNvPicPr/>
          <p:nvPr/>
        </p:nvPicPr>
        <p:blipFill>
          <a:blip r:embed="rId4"/>
          <a:stretch/>
        </p:blipFill>
        <p:spPr>
          <a:xfrm>
            <a:off x="6450120" y="2370240"/>
            <a:ext cx="5348160" cy="2270160"/>
          </a:xfrm>
          <a:prstGeom prst="rect">
            <a:avLst/>
          </a:prstGeom>
          <a:ln w="0">
            <a:noFill/>
          </a:ln>
        </p:spPr>
      </p:pic>
      <p:sp>
        <p:nvSpPr>
          <p:cNvPr id="167" name="矩形 7"/>
          <p:cNvSpPr/>
          <p:nvPr/>
        </p:nvSpPr>
        <p:spPr>
          <a:xfrm>
            <a:off x="8100720" y="558972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四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817560" y="1036800"/>
            <a:ext cx="1027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设置的内容确定之后，为了掉电不丢失，所以，需要确定时存储内容，在上电时，读取内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般最多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字节的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务必明确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按照字节存储的，当待存储的数据超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5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之后，需要将数据拆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176840" y="277920"/>
            <a:ext cx="430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界面退出时，存储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RO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上电自动读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1111320" y="431640"/>
            <a:ext cx="87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赛三大金刚高频考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62120" y="1405080"/>
            <a:ext cx="428148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LED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示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1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斥点亮，我亮你不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2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兼容点亮，不产生相互影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3 LE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水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4 LE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亮度等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5 LE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固定间隔闪烁，持续固定时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124640" y="334800"/>
            <a:ext cx="391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按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跳转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，松开恢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图片 2" descr=""/>
          <p:cNvPicPr/>
          <p:nvPr/>
        </p:nvPicPr>
        <p:blipFill>
          <a:blip r:embed="rId1"/>
          <a:stretch/>
        </p:blipFill>
        <p:spPr>
          <a:xfrm>
            <a:off x="520560" y="2017800"/>
            <a:ext cx="519300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2064240" y="480996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4" descr=""/>
          <p:cNvPicPr/>
          <p:nvPr/>
        </p:nvPicPr>
        <p:blipFill>
          <a:blip r:embed="rId2"/>
          <a:stretch/>
        </p:blipFill>
        <p:spPr>
          <a:xfrm>
            <a:off x="6140520" y="2647800"/>
            <a:ext cx="5591160" cy="619200"/>
          </a:xfrm>
          <a:prstGeom prst="rect">
            <a:avLst/>
          </a:prstGeom>
          <a:ln w="0">
            <a:noFill/>
          </a:ln>
        </p:spPr>
      </p:pic>
      <p:sp>
        <p:nvSpPr>
          <p:cNvPr id="174" name="矩形 5"/>
          <p:cNvSpPr/>
          <p:nvPr/>
        </p:nvSpPr>
        <p:spPr>
          <a:xfrm>
            <a:off x="8195760" y="480996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八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3"/>
          <p:cNvSpPr/>
          <p:nvPr/>
        </p:nvSpPr>
        <p:spPr>
          <a:xfrm>
            <a:off x="817560" y="1036800"/>
            <a:ext cx="1027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般跳转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界面后，只需要进行显示操作，没有按键操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可以通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Key_Ol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实现电平的判断，按下去哪个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key_ol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就是哪个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key_dow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实现的是下降沿判断，按下去哪个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key_dow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就是哪个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1124640" y="334800"/>
            <a:ext cx="391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按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跳转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，松开恢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1150560" y="239760"/>
            <a:ext cx="259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7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数据逐个输入并显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1"/>
          <a:stretch/>
        </p:blipFill>
        <p:spPr>
          <a:xfrm>
            <a:off x="561960" y="1658880"/>
            <a:ext cx="5762520" cy="2238480"/>
          </a:xfrm>
          <a:prstGeom prst="rect">
            <a:avLst/>
          </a:prstGeom>
          <a:ln w="0">
            <a:noFill/>
          </a:ln>
        </p:spPr>
      </p:pic>
      <p:sp>
        <p:nvSpPr>
          <p:cNvPr id="179" name="矩形 3"/>
          <p:cNvSpPr/>
          <p:nvPr/>
        </p:nvSpPr>
        <p:spPr>
          <a:xfrm>
            <a:off x="2208600" y="432900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五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3"/>
          <p:cNvSpPr/>
          <p:nvPr/>
        </p:nvSpPr>
        <p:spPr>
          <a:xfrm>
            <a:off x="817560" y="1036800"/>
            <a:ext cx="102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通过数码管和按键配合，一个一个的输入，一个一个的显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处理方法就是通过数组和数组的索引值进行，每按下一个按键，索引值增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1150560" y="239760"/>
            <a:ext cx="259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7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数据逐个输入并显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1271880" y="192240"/>
            <a:ext cx="300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8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短按和长按（抬起时长按生效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图片 2" descr=""/>
          <p:cNvPicPr/>
          <p:nvPr/>
        </p:nvPicPr>
        <p:blipFill>
          <a:blip r:embed="rId1"/>
          <a:srcRect l="0" t="40776" r="0" b="0"/>
          <a:stretch/>
        </p:blipFill>
        <p:spPr>
          <a:xfrm>
            <a:off x="0" y="893880"/>
            <a:ext cx="7070760" cy="24667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3" descr=""/>
          <p:cNvPicPr/>
          <p:nvPr/>
        </p:nvPicPr>
        <p:blipFill>
          <a:blip r:embed="rId2"/>
          <a:srcRect l="0" t="78493" r="0" b="6668"/>
          <a:stretch/>
        </p:blipFill>
        <p:spPr>
          <a:xfrm>
            <a:off x="595440" y="3538440"/>
            <a:ext cx="6475320" cy="712800"/>
          </a:xfrm>
          <a:prstGeom prst="rect">
            <a:avLst/>
          </a:prstGeom>
          <a:ln w="0">
            <a:noFill/>
          </a:ln>
        </p:spPr>
      </p:pic>
      <p:sp>
        <p:nvSpPr>
          <p:cNvPr id="185" name="矩形 3"/>
          <p:cNvSpPr/>
          <p:nvPr/>
        </p:nvSpPr>
        <p:spPr>
          <a:xfrm>
            <a:off x="2371680" y="442908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二届省赛真题第二场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1087560" y="5234040"/>
            <a:ext cx="582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短按和长按区分，长按功能在按键抬起时有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任意多边形 3"/>
          <p:cNvSpPr/>
          <p:nvPr/>
        </p:nvSpPr>
        <p:spPr>
          <a:xfrm>
            <a:off x="7505640" y="936720"/>
            <a:ext cx="2816280" cy="842760"/>
          </a:xfrm>
          <a:custGeom>
            <a:avLst/>
            <a:gdLst/>
            <a:ahLst/>
            <a:rect l="l" t="t" r="r" b="b"/>
            <a:pathLst>
              <a:path w="2816128" h="842231">
                <a:moveTo>
                  <a:pt x="0" y="44879"/>
                </a:moveTo>
                <a:lnTo>
                  <a:pt x="684397" y="39269"/>
                </a:lnTo>
                <a:cubicBezTo>
                  <a:pt x="699813" y="38913"/>
                  <a:pt x="714128" y="30934"/>
                  <a:pt x="729276" y="28049"/>
                </a:cubicBezTo>
                <a:cubicBezTo>
                  <a:pt x="753437" y="23447"/>
                  <a:pt x="778043" y="21432"/>
                  <a:pt x="802204" y="16830"/>
                </a:cubicBezTo>
                <a:cubicBezTo>
                  <a:pt x="831725" y="11207"/>
                  <a:pt x="840543" y="7790"/>
                  <a:pt x="863912" y="0"/>
                </a:cubicBezTo>
                <a:cubicBezTo>
                  <a:pt x="927370" y="12692"/>
                  <a:pt x="924745" y="-7280"/>
                  <a:pt x="914400" y="39269"/>
                </a:cubicBezTo>
                <a:cubicBezTo>
                  <a:pt x="912727" y="46795"/>
                  <a:pt x="910660" y="54228"/>
                  <a:pt x="908790" y="61708"/>
                </a:cubicBezTo>
                <a:cubicBezTo>
                  <a:pt x="906920" y="76668"/>
                  <a:pt x="903180" y="91511"/>
                  <a:pt x="903180" y="106587"/>
                </a:cubicBezTo>
                <a:cubicBezTo>
                  <a:pt x="903180" y="1086640"/>
                  <a:pt x="684434" y="812331"/>
                  <a:pt x="1744653" y="790984"/>
                </a:cubicBezTo>
                <a:cubicBezTo>
                  <a:pt x="1768962" y="781634"/>
                  <a:pt x="1792608" y="770334"/>
                  <a:pt x="1817580" y="762935"/>
                </a:cubicBezTo>
                <a:cubicBezTo>
                  <a:pt x="1843251" y="755329"/>
                  <a:pt x="1870030" y="752126"/>
                  <a:pt x="1896118" y="746106"/>
                </a:cubicBezTo>
                <a:cubicBezTo>
                  <a:pt x="2093694" y="700511"/>
                  <a:pt x="1841272" y="754830"/>
                  <a:pt x="2025143" y="718057"/>
                </a:cubicBezTo>
                <a:cubicBezTo>
                  <a:pt x="2032703" y="716545"/>
                  <a:pt x="2040337" y="715082"/>
                  <a:pt x="2047583" y="712447"/>
                </a:cubicBezTo>
                <a:cubicBezTo>
                  <a:pt x="2060966" y="707580"/>
                  <a:pt x="2072949" y="698706"/>
                  <a:pt x="2086851" y="695617"/>
                </a:cubicBezTo>
                <a:cubicBezTo>
                  <a:pt x="2103128" y="692000"/>
                  <a:pt x="2237214" y="684467"/>
                  <a:pt x="2238316" y="684398"/>
                </a:cubicBezTo>
                <a:cubicBezTo>
                  <a:pt x="2303912" y="662533"/>
                  <a:pt x="2227774" y="686170"/>
                  <a:pt x="2401001" y="673178"/>
                </a:cubicBezTo>
                <a:cubicBezTo>
                  <a:pt x="2427372" y="671200"/>
                  <a:pt x="2453360" y="665699"/>
                  <a:pt x="2479539" y="661959"/>
                </a:cubicBezTo>
                <a:lnTo>
                  <a:pt x="2737590" y="667568"/>
                </a:lnTo>
                <a:cubicBezTo>
                  <a:pt x="2748956" y="668005"/>
                  <a:pt x="2760354" y="669909"/>
                  <a:pt x="2771249" y="673178"/>
                </a:cubicBezTo>
                <a:cubicBezTo>
                  <a:pt x="2779259" y="675581"/>
                  <a:pt x="2786208" y="680658"/>
                  <a:pt x="2793688" y="684398"/>
                </a:cubicBezTo>
                <a:lnTo>
                  <a:pt x="2816128" y="678788"/>
                </a:ln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任意多边形 4"/>
          <p:cNvSpPr/>
          <p:nvPr/>
        </p:nvSpPr>
        <p:spPr>
          <a:xfrm>
            <a:off x="10266480" y="500040"/>
            <a:ext cx="46080" cy="35244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任意多边形 10"/>
          <p:cNvSpPr/>
          <p:nvPr/>
        </p:nvSpPr>
        <p:spPr>
          <a:xfrm>
            <a:off x="10275840" y="933480"/>
            <a:ext cx="46080" cy="35388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任意多边形 11"/>
          <p:cNvSpPr/>
          <p:nvPr/>
        </p:nvSpPr>
        <p:spPr>
          <a:xfrm>
            <a:off x="10321920" y="1425600"/>
            <a:ext cx="46080" cy="35388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任意多边形 12"/>
          <p:cNvSpPr/>
          <p:nvPr/>
        </p:nvSpPr>
        <p:spPr>
          <a:xfrm>
            <a:off x="10368000" y="1860480"/>
            <a:ext cx="46080" cy="35424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任意多边形 15"/>
          <p:cNvSpPr/>
          <p:nvPr/>
        </p:nvSpPr>
        <p:spPr>
          <a:xfrm>
            <a:off x="8612280" y="858960"/>
            <a:ext cx="1485720" cy="857160"/>
          </a:xfrm>
          <a:custGeom>
            <a:avLst/>
            <a:gdLst/>
            <a:ahLst/>
            <a:rect l="l" t="t" r="r" b="b"/>
            <a:pathLst>
              <a:path w="1486602" h="856150">
                <a:moveTo>
                  <a:pt x="0" y="792664"/>
                </a:moveTo>
                <a:cubicBezTo>
                  <a:pt x="66335" y="832464"/>
                  <a:pt x="5929" y="802261"/>
                  <a:pt x="151465" y="815103"/>
                </a:cubicBezTo>
                <a:cubicBezTo>
                  <a:pt x="174126" y="817103"/>
                  <a:pt x="196155" y="823982"/>
                  <a:pt x="218783" y="826323"/>
                </a:cubicBezTo>
                <a:cubicBezTo>
                  <a:pt x="281876" y="832850"/>
                  <a:pt x="473612" y="836622"/>
                  <a:pt x="504884" y="837542"/>
                </a:cubicBezTo>
                <a:cubicBezTo>
                  <a:pt x="562852" y="835672"/>
                  <a:pt x="653171" y="883966"/>
                  <a:pt x="678788" y="831932"/>
                </a:cubicBezTo>
                <a:cubicBezTo>
                  <a:pt x="731653" y="724549"/>
                  <a:pt x="679614" y="592499"/>
                  <a:pt x="684398" y="472904"/>
                </a:cubicBezTo>
                <a:cubicBezTo>
                  <a:pt x="685234" y="452014"/>
                  <a:pt x="691877" y="431765"/>
                  <a:pt x="695617" y="411196"/>
                </a:cubicBezTo>
                <a:cubicBezTo>
                  <a:pt x="697838" y="340117"/>
                  <a:pt x="705729" y="54081"/>
                  <a:pt x="712447" y="1680"/>
                </a:cubicBezTo>
                <a:cubicBezTo>
                  <a:pt x="713304" y="-5007"/>
                  <a:pt x="723079" y="10243"/>
                  <a:pt x="729276" y="12899"/>
                </a:cubicBezTo>
                <a:cubicBezTo>
                  <a:pt x="736363" y="15936"/>
                  <a:pt x="744401" y="16071"/>
                  <a:pt x="751716" y="18509"/>
                </a:cubicBezTo>
                <a:cubicBezTo>
                  <a:pt x="760467" y="21426"/>
                  <a:pt x="784767" y="32710"/>
                  <a:pt x="796594" y="35338"/>
                </a:cubicBezTo>
                <a:cubicBezTo>
                  <a:pt x="807698" y="37805"/>
                  <a:pt x="819033" y="39078"/>
                  <a:pt x="830253" y="40948"/>
                </a:cubicBezTo>
                <a:cubicBezTo>
                  <a:pt x="862209" y="51601"/>
                  <a:pt x="843889" y="46800"/>
                  <a:pt x="897571" y="52168"/>
                </a:cubicBezTo>
                <a:lnTo>
                  <a:pt x="959279" y="57778"/>
                </a:lnTo>
                <a:cubicBezTo>
                  <a:pt x="974272" y="59356"/>
                  <a:pt x="989082" y="63228"/>
                  <a:pt x="1004157" y="63388"/>
                </a:cubicBezTo>
                <a:cubicBezTo>
                  <a:pt x="1164963" y="65099"/>
                  <a:pt x="1325787" y="63388"/>
                  <a:pt x="1486602" y="63388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10025640" y="219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间节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8736840" y="182412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升沿位置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短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任意多边形 19"/>
          <p:cNvSpPr/>
          <p:nvPr/>
        </p:nvSpPr>
        <p:spPr>
          <a:xfrm>
            <a:off x="10756800" y="858960"/>
            <a:ext cx="1487520" cy="857160"/>
          </a:xfrm>
          <a:custGeom>
            <a:avLst/>
            <a:gdLst/>
            <a:ahLst/>
            <a:rect l="l" t="t" r="r" b="b"/>
            <a:pathLst>
              <a:path w="1486602" h="856150">
                <a:moveTo>
                  <a:pt x="0" y="792664"/>
                </a:moveTo>
                <a:cubicBezTo>
                  <a:pt x="66335" y="832464"/>
                  <a:pt x="5929" y="802261"/>
                  <a:pt x="151465" y="815103"/>
                </a:cubicBezTo>
                <a:cubicBezTo>
                  <a:pt x="174126" y="817103"/>
                  <a:pt x="196155" y="823982"/>
                  <a:pt x="218783" y="826323"/>
                </a:cubicBezTo>
                <a:cubicBezTo>
                  <a:pt x="281876" y="832850"/>
                  <a:pt x="473612" y="836622"/>
                  <a:pt x="504884" y="837542"/>
                </a:cubicBezTo>
                <a:cubicBezTo>
                  <a:pt x="562852" y="835672"/>
                  <a:pt x="653171" y="883966"/>
                  <a:pt x="678788" y="831932"/>
                </a:cubicBezTo>
                <a:cubicBezTo>
                  <a:pt x="731653" y="724549"/>
                  <a:pt x="679614" y="592499"/>
                  <a:pt x="684398" y="472904"/>
                </a:cubicBezTo>
                <a:cubicBezTo>
                  <a:pt x="685234" y="452014"/>
                  <a:pt x="691877" y="431765"/>
                  <a:pt x="695617" y="411196"/>
                </a:cubicBezTo>
                <a:cubicBezTo>
                  <a:pt x="697838" y="340117"/>
                  <a:pt x="705729" y="54081"/>
                  <a:pt x="712447" y="1680"/>
                </a:cubicBezTo>
                <a:cubicBezTo>
                  <a:pt x="713304" y="-5007"/>
                  <a:pt x="723079" y="10243"/>
                  <a:pt x="729276" y="12899"/>
                </a:cubicBezTo>
                <a:cubicBezTo>
                  <a:pt x="736363" y="15936"/>
                  <a:pt x="744401" y="16071"/>
                  <a:pt x="751716" y="18509"/>
                </a:cubicBezTo>
                <a:cubicBezTo>
                  <a:pt x="760467" y="21426"/>
                  <a:pt x="784767" y="32710"/>
                  <a:pt x="796594" y="35338"/>
                </a:cubicBezTo>
                <a:cubicBezTo>
                  <a:pt x="807698" y="37805"/>
                  <a:pt x="819033" y="39078"/>
                  <a:pt x="830253" y="40948"/>
                </a:cubicBezTo>
                <a:cubicBezTo>
                  <a:pt x="862209" y="51601"/>
                  <a:pt x="843889" y="46800"/>
                  <a:pt x="897571" y="52168"/>
                </a:cubicBezTo>
                <a:lnTo>
                  <a:pt x="959279" y="57778"/>
                </a:lnTo>
                <a:cubicBezTo>
                  <a:pt x="974272" y="59356"/>
                  <a:pt x="989082" y="63228"/>
                  <a:pt x="1004157" y="63388"/>
                </a:cubicBezTo>
                <a:cubicBezTo>
                  <a:pt x="1164963" y="65099"/>
                  <a:pt x="1325787" y="63388"/>
                  <a:pt x="1486602" y="63388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10970640" y="182412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升沿位置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长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7728120" y="3360600"/>
            <a:ext cx="4005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if(Key_Down =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S4_ms_Tick = ms_Ti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if(Key_Up =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if((ms_Tick - S4_ms_Tick) &lt; 1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state_flag = 0;/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执行短按功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state_flag = 1;/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执行长按功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1145880" y="114480"/>
            <a:ext cx="314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9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短按和长按（时间到后长按生效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图片 1" descr=""/>
          <p:cNvPicPr/>
          <p:nvPr/>
        </p:nvPicPr>
        <p:blipFill>
          <a:blip r:embed="rId1"/>
          <a:srcRect l="0" t="47343" r="0" b="0"/>
          <a:stretch/>
        </p:blipFill>
        <p:spPr>
          <a:xfrm>
            <a:off x="341280" y="941400"/>
            <a:ext cx="7155000" cy="3232080"/>
          </a:xfrm>
          <a:prstGeom prst="rect">
            <a:avLst/>
          </a:prstGeom>
          <a:ln w="0">
            <a:noFill/>
          </a:ln>
        </p:spPr>
      </p:pic>
      <p:sp>
        <p:nvSpPr>
          <p:cNvPr id="200" name="矩形 3"/>
          <p:cNvSpPr/>
          <p:nvPr/>
        </p:nvSpPr>
        <p:spPr>
          <a:xfrm>
            <a:off x="2108880" y="443232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届单片机国赛真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1087560" y="5234040"/>
            <a:ext cx="1027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短按和长按区分，长按功能在时间到达后立马生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任意多边形 5"/>
          <p:cNvSpPr/>
          <p:nvPr/>
        </p:nvSpPr>
        <p:spPr>
          <a:xfrm>
            <a:off x="7561440" y="1273320"/>
            <a:ext cx="2815920" cy="842760"/>
          </a:xfrm>
          <a:custGeom>
            <a:avLst/>
            <a:gdLst/>
            <a:ahLst/>
            <a:rect l="l" t="t" r="r" b="b"/>
            <a:pathLst>
              <a:path w="2816128" h="842231">
                <a:moveTo>
                  <a:pt x="0" y="44879"/>
                </a:moveTo>
                <a:lnTo>
                  <a:pt x="684397" y="39269"/>
                </a:lnTo>
                <a:cubicBezTo>
                  <a:pt x="699813" y="38913"/>
                  <a:pt x="714128" y="30934"/>
                  <a:pt x="729276" y="28049"/>
                </a:cubicBezTo>
                <a:cubicBezTo>
                  <a:pt x="753437" y="23447"/>
                  <a:pt x="778043" y="21432"/>
                  <a:pt x="802204" y="16830"/>
                </a:cubicBezTo>
                <a:cubicBezTo>
                  <a:pt x="831725" y="11207"/>
                  <a:pt x="840543" y="7790"/>
                  <a:pt x="863912" y="0"/>
                </a:cubicBezTo>
                <a:cubicBezTo>
                  <a:pt x="927370" y="12692"/>
                  <a:pt x="924745" y="-7280"/>
                  <a:pt x="914400" y="39269"/>
                </a:cubicBezTo>
                <a:cubicBezTo>
                  <a:pt x="912727" y="46795"/>
                  <a:pt x="910660" y="54228"/>
                  <a:pt x="908790" y="61708"/>
                </a:cubicBezTo>
                <a:cubicBezTo>
                  <a:pt x="906920" y="76668"/>
                  <a:pt x="903180" y="91511"/>
                  <a:pt x="903180" y="106587"/>
                </a:cubicBezTo>
                <a:cubicBezTo>
                  <a:pt x="903180" y="1086640"/>
                  <a:pt x="684434" y="812331"/>
                  <a:pt x="1744653" y="790984"/>
                </a:cubicBezTo>
                <a:cubicBezTo>
                  <a:pt x="1768962" y="781634"/>
                  <a:pt x="1792608" y="770334"/>
                  <a:pt x="1817580" y="762935"/>
                </a:cubicBezTo>
                <a:cubicBezTo>
                  <a:pt x="1843251" y="755329"/>
                  <a:pt x="1870030" y="752126"/>
                  <a:pt x="1896118" y="746106"/>
                </a:cubicBezTo>
                <a:cubicBezTo>
                  <a:pt x="2093694" y="700511"/>
                  <a:pt x="1841272" y="754830"/>
                  <a:pt x="2025143" y="718057"/>
                </a:cubicBezTo>
                <a:cubicBezTo>
                  <a:pt x="2032703" y="716545"/>
                  <a:pt x="2040337" y="715082"/>
                  <a:pt x="2047583" y="712447"/>
                </a:cubicBezTo>
                <a:cubicBezTo>
                  <a:pt x="2060966" y="707580"/>
                  <a:pt x="2072949" y="698706"/>
                  <a:pt x="2086851" y="695617"/>
                </a:cubicBezTo>
                <a:cubicBezTo>
                  <a:pt x="2103128" y="692000"/>
                  <a:pt x="2237214" y="684467"/>
                  <a:pt x="2238316" y="684398"/>
                </a:cubicBezTo>
                <a:cubicBezTo>
                  <a:pt x="2303912" y="662533"/>
                  <a:pt x="2227774" y="686170"/>
                  <a:pt x="2401001" y="673178"/>
                </a:cubicBezTo>
                <a:cubicBezTo>
                  <a:pt x="2427372" y="671200"/>
                  <a:pt x="2453360" y="665699"/>
                  <a:pt x="2479539" y="661959"/>
                </a:cubicBezTo>
                <a:lnTo>
                  <a:pt x="2737590" y="667568"/>
                </a:lnTo>
                <a:cubicBezTo>
                  <a:pt x="2748956" y="668005"/>
                  <a:pt x="2760354" y="669909"/>
                  <a:pt x="2771249" y="673178"/>
                </a:cubicBezTo>
                <a:cubicBezTo>
                  <a:pt x="2779259" y="675581"/>
                  <a:pt x="2786208" y="680658"/>
                  <a:pt x="2793688" y="684398"/>
                </a:cubicBezTo>
                <a:lnTo>
                  <a:pt x="2816128" y="678788"/>
                </a:ln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任意多边形 6"/>
          <p:cNvSpPr/>
          <p:nvPr/>
        </p:nvSpPr>
        <p:spPr>
          <a:xfrm>
            <a:off x="10321920" y="836640"/>
            <a:ext cx="46080" cy="35244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任意多边形 7"/>
          <p:cNvSpPr/>
          <p:nvPr/>
        </p:nvSpPr>
        <p:spPr>
          <a:xfrm>
            <a:off x="10333080" y="1270080"/>
            <a:ext cx="44280" cy="35388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任意多边形 8"/>
          <p:cNvSpPr/>
          <p:nvPr/>
        </p:nvSpPr>
        <p:spPr>
          <a:xfrm>
            <a:off x="10377360" y="1762200"/>
            <a:ext cx="46080" cy="35388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任意多边形 9"/>
          <p:cNvSpPr/>
          <p:nvPr/>
        </p:nvSpPr>
        <p:spPr>
          <a:xfrm>
            <a:off x="10423440" y="2197080"/>
            <a:ext cx="46080" cy="353880"/>
          </a:xfrm>
          <a:custGeom>
            <a:avLst/>
            <a:gdLst/>
            <a:ahLst/>
            <a:rect l="l" t="t" r="r" b="b"/>
            <a:pathLst>
              <a:path w="16834" h="72927">
                <a:moveTo>
                  <a:pt x="0" y="0"/>
                </a:moveTo>
                <a:cubicBezTo>
                  <a:pt x="3740" y="13089"/>
                  <a:pt x="7918" y="26061"/>
                  <a:pt x="11220" y="39268"/>
                </a:cubicBezTo>
                <a:cubicBezTo>
                  <a:pt x="17197" y="63174"/>
                  <a:pt x="16830" y="58954"/>
                  <a:pt x="16830" y="72927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任意多边形 11"/>
          <p:cNvSpPr/>
          <p:nvPr/>
        </p:nvSpPr>
        <p:spPr>
          <a:xfrm>
            <a:off x="8667720" y="1195560"/>
            <a:ext cx="1487520" cy="857160"/>
          </a:xfrm>
          <a:custGeom>
            <a:avLst/>
            <a:gdLst/>
            <a:ahLst/>
            <a:rect l="l" t="t" r="r" b="b"/>
            <a:pathLst>
              <a:path w="1486602" h="856150">
                <a:moveTo>
                  <a:pt x="0" y="792664"/>
                </a:moveTo>
                <a:cubicBezTo>
                  <a:pt x="66335" y="832464"/>
                  <a:pt x="5929" y="802261"/>
                  <a:pt x="151465" y="815103"/>
                </a:cubicBezTo>
                <a:cubicBezTo>
                  <a:pt x="174126" y="817103"/>
                  <a:pt x="196155" y="823982"/>
                  <a:pt x="218783" y="826323"/>
                </a:cubicBezTo>
                <a:cubicBezTo>
                  <a:pt x="281876" y="832850"/>
                  <a:pt x="473612" y="836622"/>
                  <a:pt x="504884" y="837542"/>
                </a:cubicBezTo>
                <a:cubicBezTo>
                  <a:pt x="562852" y="835672"/>
                  <a:pt x="653171" y="883966"/>
                  <a:pt x="678788" y="831932"/>
                </a:cubicBezTo>
                <a:cubicBezTo>
                  <a:pt x="731653" y="724549"/>
                  <a:pt x="679614" y="592499"/>
                  <a:pt x="684398" y="472904"/>
                </a:cubicBezTo>
                <a:cubicBezTo>
                  <a:pt x="685234" y="452014"/>
                  <a:pt x="691877" y="431765"/>
                  <a:pt x="695617" y="411196"/>
                </a:cubicBezTo>
                <a:cubicBezTo>
                  <a:pt x="697838" y="340117"/>
                  <a:pt x="705729" y="54081"/>
                  <a:pt x="712447" y="1680"/>
                </a:cubicBezTo>
                <a:cubicBezTo>
                  <a:pt x="713304" y="-5007"/>
                  <a:pt x="723079" y="10243"/>
                  <a:pt x="729276" y="12899"/>
                </a:cubicBezTo>
                <a:cubicBezTo>
                  <a:pt x="736363" y="15936"/>
                  <a:pt x="744401" y="16071"/>
                  <a:pt x="751716" y="18509"/>
                </a:cubicBezTo>
                <a:cubicBezTo>
                  <a:pt x="760467" y="21426"/>
                  <a:pt x="784767" y="32710"/>
                  <a:pt x="796594" y="35338"/>
                </a:cubicBezTo>
                <a:cubicBezTo>
                  <a:pt x="807698" y="37805"/>
                  <a:pt x="819033" y="39078"/>
                  <a:pt x="830253" y="40948"/>
                </a:cubicBezTo>
                <a:cubicBezTo>
                  <a:pt x="862209" y="51601"/>
                  <a:pt x="843889" y="46800"/>
                  <a:pt x="897571" y="52168"/>
                </a:cubicBezTo>
                <a:lnTo>
                  <a:pt x="959279" y="57778"/>
                </a:lnTo>
                <a:cubicBezTo>
                  <a:pt x="974272" y="59356"/>
                  <a:pt x="989082" y="63228"/>
                  <a:pt x="1004157" y="63388"/>
                </a:cubicBezTo>
                <a:cubicBezTo>
                  <a:pt x="1164963" y="65099"/>
                  <a:pt x="1325787" y="63388"/>
                  <a:pt x="1486602" y="63388"/>
                </a:cubicBezTo>
              </a:path>
            </a:pathLst>
          </a:cu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10082520" y="253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间节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8792280" y="216072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升沿位置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短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10190160" y="2847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长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5"/>
          <p:cNvSpPr/>
          <p:nvPr/>
        </p:nvSpPr>
        <p:spPr>
          <a:xfrm>
            <a:off x="7575480" y="3179880"/>
            <a:ext cx="60962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if(Key_Down == 4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S4_ms_Tick = ms_Tick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Long_Short_Touch_Flag = 1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if(Long_Short_Touch_Flag ==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if((ms_Tick - S4_ms_Tick) &lt; 1000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if(Key_Up == 4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state_flag = 0;//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执行短按功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Long_Short_Touch_Flag = 0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state_flag = 1;//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执行长按功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Long_Short_Touch_Flag = 0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"/>
          <p:cNvSpPr/>
          <p:nvPr/>
        </p:nvSpPr>
        <p:spPr>
          <a:xfrm>
            <a:off x="780120" y="210960"/>
            <a:ext cx="218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斥点亮，我亮你不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图片 2" descr=""/>
          <p:cNvPicPr/>
          <p:nvPr/>
        </p:nvPicPr>
        <p:blipFill>
          <a:blip r:embed="rId1"/>
          <a:stretch/>
        </p:blipFill>
        <p:spPr>
          <a:xfrm>
            <a:off x="495360" y="1523880"/>
            <a:ext cx="4829040" cy="120996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2320560" y="2952720"/>
            <a:ext cx="11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二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图片 4" descr=""/>
          <p:cNvPicPr/>
          <p:nvPr/>
        </p:nvPicPr>
        <p:blipFill>
          <a:blip r:embed="rId2"/>
          <a:stretch/>
        </p:blipFill>
        <p:spPr>
          <a:xfrm>
            <a:off x="871560" y="3846600"/>
            <a:ext cx="3267000" cy="743040"/>
          </a:xfrm>
          <a:prstGeom prst="rect">
            <a:avLst/>
          </a:prstGeom>
          <a:ln w="0">
            <a:noFill/>
          </a:ln>
        </p:spPr>
      </p:pic>
      <p:sp>
        <p:nvSpPr>
          <p:cNvPr id="216" name="矩形 5"/>
          <p:cNvSpPr/>
          <p:nvPr/>
        </p:nvSpPr>
        <p:spPr>
          <a:xfrm>
            <a:off x="1482480" y="474516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6" descr=""/>
          <p:cNvPicPr/>
          <p:nvPr/>
        </p:nvPicPr>
        <p:blipFill>
          <a:blip r:embed="rId3"/>
          <a:stretch/>
        </p:blipFill>
        <p:spPr>
          <a:xfrm>
            <a:off x="5848200" y="1523880"/>
            <a:ext cx="6343920" cy="819360"/>
          </a:xfrm>
          <a:prstGeom prst="rect">
            <a:avLst/>
          </a:prstGeom>
          <a:ln w="0">
            <a:noFill/>
          </a:ln>
        </p:spPr>
      </p:pic>
      <p:sp>
        <p:nvSpPr>
          <p:cNvPr id="218" name="矩形 7"/>
          <p:cNvSpPr/>
          <p:nvPr/>
        </p:nvSpPr>
        <p:spPr>
          <a:xfrm>
            <a:off x="7517160" y="258444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七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817560" y="1036800"/>
            <a:ext cx="1027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互斥点亮，一般需要两步，先把互斥点亮的所有灯熄灭，再把需要点亮的灯打开，就可以实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样的好处就是，不会影响其他的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熄灭的时候通常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操作，这种操作通常用取反的方式实现，这样比较直观。否则会出现一大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"/>
          <p:cNvSpPr/>
          <p:nvPr/>
        </p:nvSpPr>
        <p:spPr>
          <a:xfrm>
            <a:off x="780120" y="210960"/>
            <a:ext cx="218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斥点亮，我亮你不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"/>
          <p:cNvSpPr/>
          <p:nvPr/>
        </p:nvSpPr>
        <p:spPr>
          <a:xfrm>
            <a:off x="844560" y="220680"/>
            <a:ext cx="245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兼容点亮，不产生相互影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2" descr=""/>
          <p:cNvPicPr/>
          <p:nvPr/>
        </p:nvPicPr>
        <p:blipFill>
          <a:blip r:embed="rId1"/>
          <a:stretch/>
        </p:blipFill>
        <p:spPr>
          <a:xfrm>
            <a:off x="203040" y="1384200"/>
            <a:ext cx="6172200" cy="819360"/>
          </a:xfrm>
          <a:prstGeom prst="rect">
            <a:avLst/>
          </a:prstGeom>
          <a:ln w="0">
            <a:noFill/>
          </a:ln>
        </p:spPr>
      </p:pic>
      <p:sp>
        <p:nvSpPr>
          <p:cNvPr id="223" name="矩形 3"/>
          <p:cNvSpPr/>
          <p:nvPr/>
        </p:nvSpPr>
        <p:spPr>
          <a:xfrm>
            <a:off x="2320560" y="2541600"/>
            <a:ext cx="11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二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4" descr=""/>
          <p:cNvPicPr/>
          <p:nvPr/>
        </p:nvPicPr>
        <p:blipFill>
          <a:blip r:embed="rId2"/>
          <a:stretch/>
        </p:blipFill>
        <p:spPr>
          <a:xfrm>
            <a:off x="203040" y="3382920"/>
            <a:ext cx="6705720" cy="2095560"/>
          </a:xfrm>
          <a:prstGeom prst="rect">
            <a:avLst/>
          </a:prstGeom>
          <a:ln w="0">
            <a:noFill/>
          </a:ln>
        </p:spPr>
      </p:pic>
      <p:sp>
        <p:nvSpPr>
          <p:cNvPr id="225" name="矩形 5"/>
          <p:cNvSpPr/>
          <p:nvPr/>
        </p:nvSpPr>
        <p:spPr>
          <a:xfrm>
            <a:off x="2206440" y="5672160"/>
            <a:ext cx="14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一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6" descr=""/>
          <p:cNvPicPr/>
          <p:nvPr/>
        </p:nvPicPr>
        <p:blipFill>
          <a:blip r:embed="rId3"/>
          <a:stretch/>
        </p:blipFill>
        <p:spPr>
          <a:xfrm>
            <a:off x="6988320" y="1106640"/>
            <a:ext cx="4914720" cy="4371840"/>
          </a:xfrm>
          <a:prstGeom prst="rect">
            <a:avLst/>
          </a:prstGeom>
          <a:ln w="0">
            <a:noFill/>
          </a:ln>
        </p:spPr>
      </p:pic>
      <p:sp>
        <p:nvSpPr>
          <p:cNvPr id="227" name="矩形 7"/>
          <p:cNvSpPr/>
          <p:nvPr/>
        </p:nvSpPr>
        <p:spPr>
          <a:xfrm>
            <a:off x="8257680" y="558180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3"/>
          <p:cNvSpPr/>
          <p:nvPr/>
        </p:nvSpPr>
        <p:spPr>
          <a:xfrm>
            <a:off x="798480" y="1576440"/>
            <a:ext cx="102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兼容点亮，不能因为你一个灯的亮灭而影响了其他的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通常采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|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要操作的灯的位的方式进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"/>
          <p:cNvSpPr/>
          <p:nvPr/>
        </p:nvSpPr>
        <p:spPr>
          <a:xfrm>
            <a:off x="844560" y="220680"/>
            <a:ext cx="245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兼容点亮，不产生相互影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116000" y="5089680"/>
            <a:ext cx="37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十一届第二场省赛真题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495720" y="17136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内容探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" descr=""/>
          <p:cNvPicPr/>
          <p:nvPr/>
        </p:nvPicPr>
        <p:blipFill>
          <a:blip r:embed="rId1"/>
          <a:stretch/>
        </p:blipFill>
        <p:spPr>
          <a:xfrm>
            <a:off x="235080" y="1062000"/>
            <a:ext cx="5769000" cy="3413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"/>
          <p:cNvPicPr/>
          <p:nvPr/>
        </p:nvPicPr>
        <p:blipFill>
          <a:blip r:embed="rId2"/>
          <a:stretch/>
        </p:blipFill>
        <p:spPr>
          <a:xfrm>
            <a:off x="6218280" y="855720"/>
            <a:ext cx="4700520" cy="361944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6789600" y="508968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十一届第一场省赛真题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513000" y="277920"/>
            <a:ext cx="163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3 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水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" descr=""/>
          <p:cNvPicPr/>
          <p:nvPr/>
        </p:nvPicPr>
        <p:blipFill>
          <a:blip r:embed="rId1"/>
          <a:stretch/>
        </p:blipFill>
        <p:spPr>
          <a:xfrm>
            <a:off x="561960" y="1249200"/>
            <a:ext cx="4810320" cy="3762360"/>
          </a:xfrm>
          <a:prstGeom prst="rect">
            <a:avLst/>
          </a:prstGeom>
          <a:ln w="0">
            <a:noFill/>
          </a:ln>
        </p:spPr>
      </p:pic>
      <p:sp>
        <p:nvSpPr>
          <p:cNvPr id="232" name="矩形 4"/>
          <p:cNvSpPr/>
          <p:nvPr/>
        </p:nvSpPr>
        <p:spPr>
          <a:xfrm>
            <a:off x="1818720" y="547524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5" descr=""/>
          <p:cNvPicPr/>
          <p:nvPr/>
        </p:nvPicPr>
        <p:blipFill>
          <a:blip r:embed="rId2"/>
          <a:stretch/>
        </p:blipFill>
        <p:spPr>
          <a:xfrm>
            <a:off x="5137200" y="2003400"/>
            <a:ext cx="6114960" cy="2428920"/>
          </a:xfrm>
          <a:prstGeom prst="rect">
            <a:avLst/>
          </a:prstGeom>
          <a:ln w="0">
            <a:noFill/>
          </a:ln>
        </p:spPr>
      </p:pic>
      <p:sp>
        <p:nvSpPr>
          <p:cNvPr id="234" name="矩形 6"/>
          <p:cNvSpPr/>
          <p:nvPr/>
        </p:nvSpPr>
        <p:spPr>
          <a:xfrm>
            <a:off x="7497360" y="547524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865080" y="1778040"/>
            <a:ext cx="102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一种，逐个点亮，一般通过移位的方式实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二种，基本上没有顺序的点亮，一般通过数组和数组索引的形式实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13000" y="277920"/>
            <a:ext cx="163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3 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水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"/>
          <p:cNvSpPr/>
          <p:nvPr/>
        </p:nvSpPr>
        <p:spPr>
          <a:xfrm>
            <a:off x="702720" y="334800"/>
            <a:ext cx="204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4 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亮度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图片 2" descr=""/>
          <p:cNvPicPr/>
          <p:nvPr/>
        </p:nvPicPr>
        <p:blipFill>
          <a:blip r:embed="rId1"/>
          <a:stretch/>
        </p:blipFill>
        <p:spPr>
          <a:xfrm>
            <a:off x="438120" y="1739880"/>
            <a:ext cx="5388120" cy="915840"/>
          </a:xfrm>
          <a:prstGeom prst="rect">
            <a:avLst/>
          </a:prstGeom>
          <a:ln w="0">
            <a:noFill/>
          </a:ln>
        </p:spPr>
      </p:pic>
      <p:sp>
        <p:nvSpPr>
          <p:cNvPr id="239" name="矩形 3"/>
          <p:cNvSpPr/>
          <p:nvPr/>
        </p:nvSpPr>
        <p:spPr>
          <a:xfrm>
            <a:off x="1915560" y="292428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3"/>
          <p:cNvSpPr/>
          <p:nvPr/>
        </p:nvSpPr>
        <p:spPr>
          <a:xfrm>
            <a:off x="865080" y="1778040"/>
            <a:ext cx="102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案一：放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led_pro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，通过控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c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显示内容来处理，缺点就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led_pro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减速周期需要降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案二：放在定时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断中，通过一个数不断循环，循环的数和一个标准值比较，实现占空比的调制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推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"/>
          <p:cNvSpPr/>
          <p:nvPr/>
        </p:nvSpPr>
        <p:spPr>
          <a:xfrm>
            <a:off x="702720" y="325440"/>
            <a:ext cx="204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4 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亮度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"/>
          <p:cNvSpPr/>
          <p:nvPr/>
        </p:nvSpPr>
        <p:spPr>
          <a:xfrm>
            <a:off x="828000" y="509760"/>
            <a:ext cx="204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5 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固定间隔闪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388800" y="1603440"/>
            <a:ext cx="5600880" cy="457200"/>
          </a:xfrm>
          <a:prstGeom prst="rect">
            <a:avLst/>
          </a:prstGeom>
          <a:ln w="0">
            <a:noFill/>
          </a:ln>
        </p:spPr>
      </p:pic>
      <p:sp>
        <p:nvSpPr>
          <p:cNvPr id="244" name="矩形 3"/>
          <p:cNvSpPr/>
          <p:nvPr/>
        </p:nvSpPr>
        <p:spPr>
          <a:xfrm>
            <a:off x="1434600" y="227664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八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4" descr=""/>
          <p:cNvPicPr/>
          <p:nvPr/>
        </p:nvPicPr>
        <p:blipFill>
          <a:blip r:embed="rId2"/>
          <a:stretch/>
        </p:blipFill>
        <p:spPr>
          <a:xfrm>
            <a:off x="563400" y="3335400"/>
            <a:ext cx="5648400" cy="1438200"/>
          </a:xfrm>
          <a:prstGeom prst="rect">
            <a:avLst/>
          </a:prstGeom>
          <a:ln w="0">
            <a:noFill/>
          </a:ln>
        </p:spPr>
      </p:pic>
      <p:sp>
        <p:nvSpPr>
          <p:cNvPr id="246" name="矩形 5"/>
          <p:cNvSpPr/>
          <p:nvPr/>
        </p:nvSpPr>
        <p:spPr>
          <a:xfrm>
            <a:off x="1434600" y="4894200"/>
            <a:ext cx="20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五届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3"/>
          <p:cNvSpPr/>
          <p:nvPr/>
        </p:nvSpPr>
        <p:spPr>
          <a:xfrm>
            <a:off x="865080" y="1778040"/>
            <a:ext cx="1027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就是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led_pro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，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c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赋值时，通过打点的方法，确定时间间隔，控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c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不同的赋值内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828000" y="509760"/>
            <a:ext cx="204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3.5 LE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固定间隔闪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"/>
          <p:cNvSpPr/>
          <p:nvPr/>
        </p:nvSpPr>
        <p:spPr>
          <a:xfrm>
            <a:off x="5359320" y="2803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689040" y="873000"/>
            <a:ext cx="5229000" cy="34959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2"/>
          <a:stretch/>
        </p:blipFill>
        <p:spPr>
          <a:xfrm>
            <a:off x="403200" y="4368960"/>
            <a:ext cx="5514840" cy="96192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1712880" y="5541840"/>
            <a:ext cx="37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十届省赛真题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4" descr=""/>
          <p:cNvPicPr/>
          <p:nvPr/>
        </p:nvPicPr>
        <p:blipFill>
          <a:blip r:embed="rId3"/>
          <a:stretch/>
        </p:blipFill>
        <p:spPr>
          <a:xfrm>
            <a:off x="6203880" y="1415880"/>
            <a:ext cx="5846760" cy="366264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7243920" y="5541840"/>
            <a:ext cx="37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三届省赛真题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495720" y="17136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内容探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"/>
          <p:cNvSpPr/>
          <p:nvPr/>
        </p:nvSpPr>
        <p:spPr>
          <a:xfrm>
            <a:off x="981000" y="1114560"/>
            <a:ext cx="8269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print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字符串长成什么样子，数码管就显示什么样子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打印一个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整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%2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%4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格式显示，前边的数字表示占用的位数，后边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按照十进制进行打印。特别注意：变量务必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，如果不是，需要强制转换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打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%4.2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其中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数据位数（数据位数包括小数点）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小数点后边的数据个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print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字符串长度超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位，比如，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显示两个小数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你的字符串数组务必增加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495720" y="171360"/>
            <a:ext cx="163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内容探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1084320" y="220680"/>
            <a:ext cx="273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界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模式切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465120" y="958680"/>
            <a:ext cx="6205680" cy="497556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2424600" y="5979960"/>
            <a:ext cx="11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二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4" descr=""/>
          <p:cNvPicPr/>
          <p:nvPr/>
        </p:nvPicPr>
        <p:blipFill>
          <a:blip r:embed="rId2"/>
          <a:stretch/>
        </p:blipFill>
        <p:spPr>
          <a:xfrm>
            <a:off x="6583320" y="4503600"/>
            <a:ext cx="4794120" cy="14306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"/>
          <p:cNvPicPr/>
          <p:nvPr/>
        </p:nvPicPr>
        <p:blipFill>
          <a:blip r:embed="rId3"/>
          <a:stretch/>
        </p:blipFill>
        <p:spPr>
          <a:xfrm>
            <a:off x="6670800" y="365040"/>
            <a:ext cx="4335480" cy="40212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8134560" y="593424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一届第一场省赛真题（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080000" y="220680"/>
            <a:ext cx="267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界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模式切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581040" y="861840"/>
            <a:ext cx="5108400" cy="3632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"/>
          <p:cNvPicPr/>
          <p:nvPr/>
        </p:nvPicPr>
        <p:blipFill>
          <a:blip r:embed="rId2"/>
          <a:stretch/>
        </p:blipFill>
        <p:spPr>
          <a:xfrm>
            <a:off x="765000" y="4494240"/>
            <a:ext cx="4741920" cy="144792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2252520" y="601668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届省赛真题（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 5" descr=""/>
          <p:cNvPicPr/>
          <p:nvPr/>
        </p:nvPicPr>
        <p:blipFill>
          <a:blip r:embed="rId3"/>
          <a:stretch/>
        </p:blipFill>
        <p:spPr>
          <a:xfrm>
            <a:off x="6162840" y="312840"/>
            <a:ext cx="4983120" cy="567504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7556040" y="601668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届省赛真题（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080000" y="220680"/>
            <a:ext cx="267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界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模式切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514440" y="1030320"/>
            <a:ext cx="4422600" cy="40464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1703160" y="160344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省赛真题（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4" descr=""/>
          <p:cNvPicPr/>
          <p:nvPr/>
        </p:nvPicPr>
        <p:blipFill>
          <a:blip r:embed="rId2"/>
          <a:stretch/>
        </p:blipFill>
        <p:spPr>
          <a:xfrm>
            <a:off x="222120" y="2806560"/>
            <a:ext cx="4956480" cy="1179720"/>
          </a:xfrm>
          <a:prstGeom prst="rect">
            <a:avLst/>
          </a:prstGeom>
          <a:ln w="0">
            <a:noFill/>
          </a:ln>
        </p:spPr>
      </p:pic>
      <p:sp>
        <p:nvSpPr>
          <p:cNvPr id="118" name="矩形 5"/>
          <p:cNvSpPr/>
          <p:nvPr/>
        </p:nvSpPr>
        <p:spPr>
          <a:xfrm>
            <a:off x="1703160" y="403380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七届省赛真题（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3"/>
          <p:cNvSpPr/>
          <p:nvPr/>
        </p:nvSpPr>
        <p:spPr>
          <a:xfrm>
            <a:off x="981000" y="1114560"/>
            <a:ext cx="8269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考核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按键对应的屏幕界面变化、模式状态变化等情况，实际上都是对应一个变量的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编程的时候，尽量按键程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key_pro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下方不要直接执行动作，而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控制的是状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变化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状态变化影响到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led_proc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eg_proc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相应的动作执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有两种状态的时候，一般定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变量，一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种状态。当有两种以上的状态时，一般定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变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080000" y="220680"/>
            <a:ext cx="267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键控制界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模式切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1T15:11:17Z</dcterms:created>
  <dc:creator>爆活虾</dc:creator>
  <dc:description/>
  <dc:language>en-US</dc:language>
  <cp:lastModifiedBy>沐凌枫</cp:lastModifiedBy>
  <dcterms:modified xsi:type="dcterms:W3CDTF">2022-04-08T14:54:22Z</dcterms:modified>
  <cp:revision>1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4</vt:lpwstr>
  </property>
</Properties>
</file>